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2E2D-B209-492D-B7C2-1B8568F14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438-091C-45D7-81DF-F8B95E5B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aqs.org/photos/the-respiratory-system-design-parts-of-the-respiratory-system-245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422-FDCE-492E-98A1-8FC4344D4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oldiesroom.org/Note%20Packets/13%20Human%20Other/00%20Human%20Other%20Systems--WHO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eywordsuggests.com/alveoli-gas-exchange-dia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1D1-099F-4D09-A8EC-4D451CD6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77D-EF2D-4B96-B360-3815D550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simo.com/hemoglobin/anemi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wellness/images/content/tar-lung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EB33-3435-45E8-B94B-257197B2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DE1-5694-4F1A-9267-BB7F5738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Tuberculosis_symptom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965A-71AA-4FCE-A16B-383FF352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ystic_fibr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0EBF-78E5-4436-90D1-14BC6C31C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udsonvalleynewsnetwork.com/2015/03/16/5-killer-of-men-cop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CF40-39C2-4B53-950D-9D6D3591F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a-to-z-guides/understanding-bronchitis-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69E8-6109-4C9C-A969-88EF3966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aturalhealthman.blogspot.ca/2012/11/smoking-is-bad-for-lu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37B-4236-4B58-9844-F60304CBF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ertiesofmatter.si.edu/Air_Hea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8228-3DA7-45ED-AA2C-E0A614E5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ubc.ca/nootk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CD6E-6B2E-4FD2-B725-A4DDDE95E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6.grafton.k12.wi.us/ges/teacher/jgirmscheid/RespiratoryDiagr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: http://www.highlands.edu/academics/divisions/scipe/biology/faculty/hargett/b2122/2122rev3/rspdi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BBB4-8A4E-4044-BB3B-62DD7ECF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7E6-B082-4D16-8911-728DC75F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nfluence.crbs.ucsd.edu/display/CS/Cellular+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AFF-FCFF-45B7-8FE2-0C9015EC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dayifoundout.com/index.php/2011/09/how-fish-gills-wor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A68-191C-47BE-8175-3CF54E42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oldiesroom.org/Note%20Packets/13%20Human%20Other/00%20Human%20Other%20Systems--WHO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58E1-8D7B-4576-B442-8420A6D1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 https://www.youtube.com/watch?v=5L3dM3hin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379-5C77-407D-921A-855DF9E5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ygardnerteaches.blogspot.ca/p/singing-anatomy-breath-vocal-fol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A39E-9271-478F-9D21-F202A7748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stcc.edu/AandP/AP/AP2pages/Units21to23/respiration/volum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700-B156-43A2-AB88-0785A4EE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neurologicals.com/index.php?app=ecom&amp;ns=prodshow&amp;ref=BSP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B9D-5D65-499B-9350-F7A85EB1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2F4-79C6-4614-A349-AFC868E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881-9B47-49DC-A2E1-5FF86308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E3F-36BB-491B-BFEC-D84C3E85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892-E8D0-4068-9168-C9D670CA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7A2-0D20-4283-9D52-B06DED1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6B5-5650-4C67-9943-1E95CEE7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485-7791-4C53-9CA5-C5521756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84E-F379-4FBA-84DF-70439D5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933-9226-4CA5-BE45-09251BE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0DD-8285-4BAB-9F1F-E4BB84A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D3E-10C6-41E8-95E6-1D8D4F1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4CDA-DBA7-4F80-B1BB-9713BFC7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1, 10.2, 1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in th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04 Pulmonary Capillary 1"/>
          <p:cNvPicPr/>
          <p:nvPr/>
        </p:nvPicPr>
        <p:blipFill>
          <a:blip r:embed="rId1"/>
          <a:stretch/>
        </p:blipFill>
        <p:spPr>
          <a:xfrm>
            <a:off x="685800" y="2014560"/>
            <a:ext cx="77724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Screen shot 2012-11-04 at 2.39.59 PM.png"/>
          <p:cNvPicPr/>
          <p:nvPr/>
        </p:nvPicPr>
        <p:blipFill>
          <a:blip r:embed="rId1"/>
          <a:srcRect l="-902" t="0" r="-90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emia_icon"/>
          <p:cNvPicPr/>
          <p:nvPr/>
        </p:nvPicPr>
        <p:blipFill>
          <a:blip r:embed="rId1"/>
          <a:stretch/>
        </p:blipFill>
        <p:spPr>
          <a:xfrm>
            <a:off x="1793880" y="1981080"/>
            <a:ext cx="555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760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ord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676px-Tuberculosis_symptoms"/>
          <p:cNvPicPr/>
          <p:nvPr/>
        </p:nvPicPr>
        <p:blipFill>
          <a:blip r:embed="rId1"/>
          <a:stretch/>
        </p:blipFill>
        <p:spPr>
          <a:xfrm>
            <a:off x="1476360" y="609480"/>
            <a:ext cx="6191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220px-Blausen_0286_CysticFibrosis"/>
          <p:cNvPicPr/>
          <p:nvPr/>
        </p:nvPicPr>
        <p:blipFill>
          <a:blip r:embed="rId1"/>
          <a:stretch/>
        </p:blipFill>
        <p:spPr>
          <a:xfrm>
            <a:off x="2511360" y="609480"/>
            <a:ext cx="411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OPD-1"/>
          <p:cNvPicPr/>
          <p:nvPr/>
        </p:nvPicPr>
        <p:blipFill>
          <a:blip r:embed="rId1"/>
          <a:stretch/>
        </p:blipFill>
        <p:spPr>
          <a:xfrm>
            <a:off x="1401840" y="609480"/>
            <a:ext cx="63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understanding_bronchitis_basics_bronchitis"/>
          <p:cNvPicPr/>
          <p:nvPr/>
        </p:nvPicPr>
        <p:blipFill>
          <a:blip r:embed="rId1"/>
          <a:stretch/>
        </p:blipFill>
        <p:spPr>
          <a:xfrm>
            <a:off x="2340000" y="609480"/>
            <a:ext cx="446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ok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moking bad for lung"/>
          <p:cNvPicPr/>
          <p:nvPr/>
        </p:nvPicPr>
        <p:blipFill>
          <a:blip r:embed="rId1"/>
          <a:stretch/>
        </p:blipFill>
        <p:spPr>
          <a:xfrm>
            <a:off x="1979640" y="1981080"/>
            <a:ext cx="518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ful compone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mon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s (formaldehyde, benzene, hydrogen cyanid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need oxy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is need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ir_components_graph"/>
          <p:cNvPicPr/>
          <p:nvPr/>
        </p:nvPicPr>
        <p:blipFill>
          <a:blip r:embed="rId1"/>
          <a:stretch/>
        </p:blipFill>
        <p:spPr>
          <a:xfrm>
            <a:off x="4648320" y="2778120"/>
            <a:ext cx="3809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igarette-273x300"/>
          <p:cNvPicPr/>
          <p:nvPr/>
        </p:nvPicPr>
        <p:blipFill>
          <a:blip r:embed="rId1"/>
          <a:stretch/>
        </p:blipFill>
        <p:spPr>
          <a:xfrm>
            <a:off x="1727280" y="228600"/>
            <a:ext cx="568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Revie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lip_image002"/>
          <p:cNvPicPr/>
          <p:nvPr/>
        </p:nvPicPr>
        <p:blipFill>
          <a:blip r:embed="rId1"/>
          <a:stretch/>
        </p:blipFill>
        <p:spPr>
          <a:xfrm>
            <a:off x="2133720" y="609480"/>
            <a:ext cx="4876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abel this diagram on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ick Google search f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system multiple cho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s lots of great interactive quizze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heducation.com/sites/0072421975/student_view0/chapter15/multiple_choice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food molecules is transferred to ATP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ellular_respiration_modified"/>
          <p:cNvPicPr/>
          <p:nvPr/>
        </p:nvPicPr>
        <p:blipFill>
          <a:blip r:embed="rId1"/>
          <a:stretch/>
        </p:blipFill>
        <p:spPr>
          <a:xfrm>
            <a:off x="685800" y="4286160"/>
            <a:ext cx="77724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 in Other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video is a great overview of the respiratory system by a teacher in Colorado.  The introduction shows respiration in an earthworm, insects, and 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fish-gill-e1315434722918"/>
          <p:cNvPicPr/>
          <p:nvPr/>
        </p:nvPicPr>
        <p:blipFill>
          <a:blip r:embed="rId1"/>
          <a:stretch/>
        </p:blipFill>
        <p:spPr>
          <a:xfrm>
            <a:off x="4495680" y="2262240"/>
            <a:ext cx="42674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01 Respiratory System"/>
          <p:cNvPicPr/>
          <p:nvPr/>
        </p:nvPicPr>
        <p:blipFill>
          <a:blip r:embed="rId1"/>
          <a:stretch/>
        </p:blipFill>
        <p:spPr>
          <a:xfrm>
            <a:off x="1368360" y="1600200"/>
            <a:ext cx="6481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ge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moves from high pressure to low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of thoracic (chest) cavity regulated by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intercostal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breathing"/>
          <p:cNvPicPr/>
          <p:nvPr/>
        </p:nvPicPr>
        <p:blipFill>
          <a:blip r:embed="rId1"/>
          <a:stretch/>
        </p:blipFill>
        <p:spPr>
          <a:xfrm>
            <a:off x="866880" y="609480"/>
            <a:ext cx="7408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respvol"/>
          <p:cNvPicPr/>
          <p:nvPr/>
        </p:nvPicPr>
        <p:blipFill>
          <a:blip r:embed="rId1"/>
          <a:stretch/>
        </p:blipFill>
        <p:spPr>
          <a:xfrm>
            <a:off x="647640" y="1752480"/>
            <a:ext cx="7770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SPIR spirometer 400"/>
          <p:cNvPicPr/>
          <p:nvPr/>
        </p:nvPicPr>
        <p:blipFill>
          <a:blip r:embed="rId1"/>
          <a:stretch/>
        </p:blipFill>
        <p:spPr>
          <a:xfrm>
            <a:off x="2022480" y="1981080"/>
            <a:ext cx="509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4:18:52Z</dcterms:created>
  <dc:creator>rubina khan</dc:creator>
  <dc:description/>
  <dc:language>en-US</dc:language>
  <cp:lastModifiedBy>rubina khan</cp:lastModifiedBy>
  <dcterms:modified xsi:type="dcterms:W3CDTF">2018-05-31T17:22:43Z</dcterms:modified>
  <cp:revision>52</cp:revision>
  <dc:subject/>
  <dc:title>The Respiratory System</dc:title>
</cp:coreProperties>
</file>